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B88-5699-4D06-B634-2D1648D3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5B2-83BC-4414-8733-E763E13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312-76D2-407B-BEC1-6CC7BE55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61B-0112-4337-B83F-014FC3D3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187-367F-44FB-AE2B-A6563610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A54-6346-4130-8EAD-C4D95A8A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F8BB-FAF0-448F-8733-3889703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78D-CEC3-4367-8142-006CF74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2E11-5427-4B71-9BDB-AAA412E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DA9F-FE6D-4A68-8C2F-D51A4E3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5298-AF46-40B9-9D7F-7559606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86C-7234-4845-90F7-FB62B01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723-06DA-4908-AFBF-B43DAF1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3E4-5B9A-4674-91D0-149332B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4842-05F6-443C-B5B8-EA6F70F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ADDA-A922-4484-901C-6E190B77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B212-919B-4417-BD79-46FCCA88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B7F-389E-40C2-824F-6D087170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BC6-9C52-467E-A506-FB2453E0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203-C887-4A4F-AD87-4723EC5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E73-0385-43AE-BDFA-298D2CCE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5EE-5A52-4F98-BFD0-FD2FC83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9AE-D0AE-42D2-BFF4-A588E22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9F2-AB9C-4728-99E2-DF42011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28B-95EE-4F12-AEC7-AB59CB2E8B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623-A7B9-4B00-B970-7E403DD8D1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420000"/>
                </a:solidFill>
                <a:latin typeface="BlackChancery"/>
              </a:rPr>
              <a:t>Genetics Continued…</a:t>
            </a:r>
            <a:endParaRPr b="0" lang="en-US" sz="6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Garamond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Probabilit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Mendel counted the offspring every time he performed a 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He used his background in statistics and realized that the principles of probability can be used to explain and predict genetic cro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Probabilit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probability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the likelihood that a partic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even will occ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Example: flipping a c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may land on heads or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2. chances of either outcome are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3. probability = 1 in 2 = ½ =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BlackChancery"/>
              </a:rPr>
              <a:t>How does this relate to genetics?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2. The way in which alleles segregate is comple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(a) the principles of probability can be used to predict the outcomes of genetic cr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3. </a:t>
            </a:r>
            <a:r>
              <a:rPr b="1" lang="en-US" sz="2800" spc="-1" strike="noStrike" u="sng">
                <a:solidFill>
                  <a:srgbClr val="420000"/>
                </a:solidFill>
                <a:uFillTx/>
                <a:latin typeface="Garamond"/>
              </a:rPr>
              <a:t>Punnett squares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are used to predict outcomes of genetic cr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(a) </a:t>
            </a:r>
            <a:r>
              <a:rPr b="1" lang="en-US" sz="2800" spc="-1" strike="noStrike" u="sng">
                <a:solidFill>
                  <a:srgbClr val="420000"/>
                </a:solidFill>
                <a:uFillTx/>
                <a:latin typeface="Garamond"/>
              </a:rPr>
              <a:t>punnett square</a:t>
            </a:r>
            <a:r>
              <a:rPr b="1" lang="en-US" sz="28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diagram used to determined the gene combinations that might result from a genetic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Some Vocabulary…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homozygous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organisms that have two identical alleles for a particular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“true-breed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Example:  TT or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5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heterozygous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organisms that have two different alleles for the same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“hybri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Example: 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phenotype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physical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genotype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tic make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Final Thought…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Probabilities predict the average outcome of a large number of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CANNOT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predict the precise outcome of an individ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the more individuals counted the more likely the predicted ratios wil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56876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Do You Remember???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e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Tra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All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498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3300"/>
                </a:solidFill>
                <a:latin typeface="Garamond"/>
              </a:rPr>
              <a:t>Do recessive alleles disappear, or are they still presen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In order to answer this question, Mendel crossed the F</a:t>
            </a:r>
            <a:r>
              <a:rPr b="1" lang="en-US" sz="3200" spc="-1" strike="noStrike" baseline="-25000">
                <a:solidFill>
                  <a:srgbClr val="4200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ration plants to see what types of offspring would b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4226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The traits controlled by recessive alleles showed up in the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F</a:t>
            </a:r>
            <a:r>
              <a:rPr b="1" lang="en-US" sz="3200" spc="-1" strike="noStrike" u="sng" baseline="-25000">
                <a:solidFill>
                  <a:srgbClr val="420000"/>
                </a:solidFill>
                <a:uFillTx/>
                <a:latin typeface="Garamond"/>
              </a:rPr>
              <a:t>2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r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840" indent="-39240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Roughly ¼ of the F</a:t>
            </a:r>
            <a:r>
              <a:rPr b="1" lang="en-US" sz="2800" spc="-1" strike="noStrike" baseline="-25000">
                <a:solidFill>
                  <a:srgbClr val="42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plants showed trait controlled by the recessive all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Why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418788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685800"/>
            <a:ext cx="4114800" cy="2743200"/>
          </a:xfrm>
          <a:prstGeom prst="wedgeRoundRectCallout">
            <a:avLst>
              <a:gd name="adj1" fmla="val -44444"/>
              <a:gd name="adj2" fmla="val 6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tillion"/>
              </a:rPr>
              <a:t>By golly I think it was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EGREGA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Segregation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 Each gamete (or sex cell) carries only one allele for a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the 2 alleles come together in an offspring        and determine a specific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BUT the alleles stay separat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                 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this is known as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se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2. 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segregation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separation of alleles during gamete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3.  So recessive alleles DO NOT disappear and can be passed on to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839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Gene Therapy Cartoon"/>
          <p:cNvPicPr/>
          <p:nvPr/>
        </p:nvPicPr>
        <p:blipFill>
          <a:blip r:embed="rId1"/>
          <a:stretch/>
        </p:blipFill>
        <p:spPr>
          <a:xfrm>
            <a:off x="0" y="0"/>
            <a:ext cx="9144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1:26:06Z</dcterms:created>
  <dc:creator> Kari Widdoes</dc:creator>
  <dc:description/>
  <dc:language>en-US</dc:language>
  <cp:lastModifiedBy>Narragansett School System</cp:lastModifiedBy>
  <dcterms:modified xsi:type="dcterms:W3CDTF">2007-02-27T17:25:29Z</dcterms:modified>
  <cp:revision>10</cp:revision>
  <dc:subject/>
  <dc:title>Genetics Continued…</dc:title>
</cp:coreProperties>
</file>